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9CA2-9728-4FAD-B8AF-726BA17E0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EA4A-9ECD-4E3A-86BE-6E8C6D70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9BA7-80BC-4780-B5B3-FCD9C761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C503-2DD9-480A-B61D-2A1D1E4B0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A6CB-FCD8-4F0F-9511-611ECCBD6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D436-DF44-429E-B5A1-4C484598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0A56-9F21-4C98-9F17-8B313F8E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EFF2-FC48-4FE0-BA9A-39E86DE5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6A22-39DA-4CCA-915D-A69092B9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A5E2-E9DE-4886-912E-AD4282D3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BF61-0B09-4DC0-84E5-04C7594C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D994-D0DC-4062-B679-51DF0C97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FF82-7734-4955-B09D-7E914A00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5670-7A72-4C15-9545-8E13637C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455B-3C2A-49C5-9D45-3276C693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310A-76C6-4C5E-986E-01CB88F8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C8FD-E181-4818-A19A-4FE7A1D40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6869-B4BF-478D-BCF7-D6FB053F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7224-9E35-4450-9FED-0AE83B13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9760-A8A7-491F-8388-B1701312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0702-0179-4F97-B661-E4797305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B2A8-CF16-4FCE-B2F6-248DDBED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104E-99F9-49E3-845B-7EA01107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3BF8-703C-4511-9601-59B0F239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9C55-283E-49D1-8897-8CD587589B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AAB9-A184-45F0-9822-6A2A6E1D20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19640" y="333360"/>
            <a:ext cx="28605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d9d9ff"/>
                </a:solidFill>
                <a:uFillTx/>
                <a:latin typeface="Comic Sans MS"/>
              </a:rPr>
              <a:t>Pedair Llinell</a:t>
            </a:r>
            <a:endParaRPr b="1" lang="en-US" sz="32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26560" y="980640"/>
            <a:ext cx="7613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eb godi eich pensel oddi ar y papur, cysylltwch y naw smotyn gyda phedwar llinell sy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916360" y="2492280"/>
            <a:ext cx="3542760" cy="3543480"/>
            <a:chOff x="2916360" y="2492280"/>
            <a:chExt cx="3542760" cy="3543480"/>
          </a:xfrm>
        </p:grpSpPr>
        <p:grpSp>
          <p:nvGrpSpPr>
            <p:cNvPr id="101" name=""/>
            <p:cNvGrpSpPr/>
            <p:nvPr/>
          </p:nvGrpSpPr>
          <p:grpSpPr>
            <a:xfrm>
              <a:off x="2916360" y="2492280"/>
              <a:ext cx="3542760" cy="342720"/>
              <a:chOff x="2916360" y="2492280"/>
              <a:chExt cx="3542760" cy="342720"/>
            </a:xfrm>
          </p:grpSpPr>
          <p:sp>
            <p:nvSpPr>
              <p:cNvPr id="102" name=""/>
              <p:cNvSpPr/>
              <p:nvPr/>
            </p:nvSpPr>
            <p:spPr>
              <a:xfrm>
                <a:off x="2916360" y="2492280"/>
                <a:ext cx="342720" cy="342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516560" y="2492280"/>
                <a:ext cx="342720" cy="342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116400" y="2492280"/>
                <a:ext cx="342720" cy="342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2916360" y="4092480"/>
              <a:ext cx="3542760" cy="342720"/>
              <a:chOff x="2916360" y="4092480"/>
              <a:chExt cx="3542760" cy="342720"/>
            </a:xfrm>
          </p:grpSpPr>
          <p:sp>
            <p:nvSpPr>
              <p:cNvPr id="106" name=""/>
              <p:cNvSpPr/>
              <p:nvPr/>
            </p:nvSpPr>
            <p:spPr>
              <a:xfrm>
                <a:off x="2916360" y="4092480"/>
                <a:ext cx="342720" cy="342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516560" y="4092480"/>
                <a:ext cx="342720" cy="342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116400" y="4092480"/>
                <a:ext cx="342720" cy="342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2916360" y="5693040"/>
              <a:ext cx="3542760" cy="342720"/>
              <a:chOff x="2916360" y="5693040"/>
              <a:chExt cx="3542760" cy="342720"/>
            </a:xfrm>
          </p:grpSpPr>
          <p:sp>
            <p:nvSpPr>
              <p:cNvPr id="110" name=""/>
              <p:cNvSpPr/>
              <p:nvPr/>
            </p:nvSpPr>
            <p:spPr>
              <a:xfrm>
                <a:off x="2916360" y="5693040"/>
                <a:ext cx="342720" cy="342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516560" y="5693040"/>
                <a:ext cx="342720" cy="342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116400" y="5693040"/>
                <a:ext cx="342720" cy="342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9:48:39Z</dcterms:created>
  <dc:creator>Carwyn</dc:creator>
  <dc:description/>
  <dc:language>en-US</dc:language>
  <cp:lastModifiedBy>Carwyn</cp:lastModifiedBy>
  <dcterms:modified xsi:type="dcterms:W3CDTF">2008-12-07T19:50:56Z</dcterms:modified>
  <cp:revision>1</cp:revision>
  <dc:subject/>
  <dc:title>Pedair Llinell</dc:title>
</cp:coreProperties>
</file>